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2526-AB99-4F88-A7F7-2B691CC13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4178-5443-4E6B-BD92-58DFF8E74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D3A8-CF4E-49AA-B2E5-24505337E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ACE24-5E8A-4014-B4EB-2627F4AE8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FD062-FE63-4213-B6E0-7D8FF0BD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7D81C-18C0-44BE-9C86-4A5ACBBD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5087F-07A2-4187-9D98-FC93BB43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E99F8-2186-4929-82E0-757855B5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E62FF-9D35-4DCB-8041-426F28C9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B4897-A8FD-4737-8073-75B1BEB8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CD5A9-EEA8-4604-9637-92D864F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939A7-3B53-409F-BD2D-A8CDCDC5F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28302-979F-4867-821A-D916AD69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6AB7B-1FD4-4AB2-8417-C371FCA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4183D-A959-42E8-ADDB-56FFD978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47F36-8DA5-4AC0-93EC-CDDE36E5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17BDD-3A59-4A1D-98D5-32F47E71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143CD-C24B-4B97-93BA-8C4D0632E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106E-E6B1-4A0B-92D2-FC4FF5491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E219-06DA-4D7D-A79B-5F0C4131F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4A1E-2C83-4710-A80A-CBC2029F2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B16C7-4575-4C5D-B239-2787414B8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12DE3-9DBE-442C-A970-AD50185EF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9D6B9-BA1C-4A41-B4F6-8FCCBDF63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5047-8B29-4A01-92B2-62E6F63ED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514600" y="62485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A0FB-972A-4B47-B3C5-532FE1A6C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Type-Check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trict Qualifi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 Fo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Q Retre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9-10, 20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Syste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and Effect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: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 ty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r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er to abstract lo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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 with effect 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 ::= 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eff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to loc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L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2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ct un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| L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ct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BE97-77C7-4F54-8B4F-8637B33A12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Ru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environment A, expression e has typ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ing e has effect 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62120" y="4800600"/>
            <a:ext cx="7924680" cy="1143000"/>
            <a:chOff x="762120" y="4800600"/>
            <a:chExt cx="7924680" cy="1143000"/>
          </a:xfrm>
        </p:grpSpPr>
        <p:sp>
          <p:nvSpPr>
            <p:cNvPr id="119" name=""/>
            <p:cNvSpPr/>
            <p:nvPr/>
          </p:nvSpPr>
          <p:spPr>
            <a:xfrm>
              <a:off x="838080" y="4800600"/>
              <a:ext cx="7848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1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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; L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2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; L2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1 e2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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; L1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L2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120" y="5257800"/>
              <a:ext cx="7619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52680" y="3352680"/>
            <a:ext cx="3048120" cy="1143000"/>
            <a:chOff x="3352680" y="3352680"/>
            <a:chExt cx="3048120" cy="1143000"/>
          </a:xfrm>
        </p:grpSpPr>
        <p:sp>
          <p:nvSpPr>
            <p:cNvPr id="122" name=""/>
            <p:cNvSpPr/>
            <p:nvPr/>
          </p:nvSpPr>
          <p:spPr>
            <a:xfrm>
              <a:off x="3505320" y="3352680"/>
              <a:ext cx="26668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 : ref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;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*e 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; L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52680" y="3809880"/>
              <a:ext cx="304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DC6D-8E1F-481B-A255-1F1892598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trict Ru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743200"/>
            <a:ext cx="7543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1 : r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; 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strict x = e1 in e2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2743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[x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2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; 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12408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12408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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60360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; L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2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58128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0DE0-815D-40ED-9280-79B5254D25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ndnes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orem:  If Ø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 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; L, then 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; S’ where r is not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of:  Show subject-reduction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E4562-59EC-44B9-9A09-3B09678CCF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 Infere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program, compute types, locs, eff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ive algorithm obvi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effect variables ranging over 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type inference, ignor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stra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ynomial-time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iciency in practic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ture work:  polymorphic recur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straints make things interes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D564-8CAA-46A7-B61D-7E23C35662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s:  Optimiz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:  Restrict used for optimiz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treat restricted pointer like stack location (whose address isn’t take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mizations sound with checked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system not comple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99 standard allows hard-to-check uses of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ad code that access restricted locations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nge use of restrict in data struct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 restrict pointers into same array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6CC80-D6E6-4A41-A54B-AF749D42B4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:  Flow-Sensitive Type Qualifi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ias Typ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Vault techniques to type qualifiers for flow-sensitiv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 Elements of data struc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a[...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n_lock(a[i]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in_unlock(a[i]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 Avoid dependent type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91A69-61F4-4E68-91C2-A40728470E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s:  Strong-Updat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rules for assign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o(x) { ... 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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*x = e 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..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|PTSet(x)| = 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[*x]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[[e]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|PTSet(x)| &gt; 1      [[*x]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Sorts"/>
                <a:ea typeface="Monotype Sorts"/>
              </a:rPr>
              <a:t>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[[*x]]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Monotype Sorts"/>
                <a:ea typeface="Monotype Sorts"/>
              </a:rPr>
              <a:t>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[e]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Alias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s-to sets only gr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|PTSet(x)| &gt; 1, lose prec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3785-C33C-41D5-98E7-F411BD6E69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ications:  Strong-Update (2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 recovers singleton points-to se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o(int *restrict x) { ... 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ssume |PTSet(x)| = 1 at beginning of fo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aliases of *x cannot be used in fo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cover even from complicated alia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o(a-&gt;b[c].d-&gt;f-&gt;g[h-&gt;i]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8C68-59E9-4D4F-A018-547E112E91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as analysis too important to leave to the compi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 tells compiler where to assume non-alias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restrict can be type check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and effect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ness proof uses standard subject-re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8778-9302-4CBC-8EB0-A4BC49CFE9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iasing:  A long-standing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ers are hard to analy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p = 3 ...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update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need to know f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ilers (optimiz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ftware analysis tools (OSQ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C0F8-7055-418E-BE06-A4F8F0A46F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ias Analys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earch:  Fully-automatic alias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liases have same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s-to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1 = e2     e1 points to whatever e2 points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systems work w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-alias analysis scales to big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fulness of result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4F23-C32F-4CDD-8BBF-66027E211E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o Important for Compil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++, Java, ML, et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piler discovers all alia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piler can assume non-alia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user help the compi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4BA9-46A3-4F96-93BF-E88AC2246B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tric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 Stand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*restrict p = ...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p point to object 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in p’s scope, all access to o are through 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4256640"/>
            <a:ext cx="678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id f(int n, int *restrict p, int *restrict q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le (n-- &g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*p++ = *q++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no ali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ex. from C99 standar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952B6-EF70-40C2-8F4C-EDCCD45335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Wor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99 does not check restri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-level definition of safe use of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s of this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mantics for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system for safe restri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ndness proo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74BC-27FD-49E9-81E5-05F9E29EEF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160" y="1828440"/>
            <a:ext cx="3352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int *restrict p = ...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int *restrict r = p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r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va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p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inval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828800"/>
            <a:ext cx="4267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 int *restrict p =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p...                //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q...                // in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{ int *restrict p = 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*r =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*r..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val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9F3C-EF55-4432-A800-E65F80FD8F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urce Languag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mbda-calculus with restri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:=  x | n | ref e | *e | e1 := e2 | \x.e | e1 e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|  restrict x = e1 in e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 x = e1 in e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in scope only within e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a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is initialized to e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in e2, only x can be used to access *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C0CC-D881-4225-A05C-DAD2833CB2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4876920"/>
            <a:ext cx="891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loc’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rror, loc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’(loc’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76920"/>
            <a:ext cx="48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; S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ig-Step Seman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581280"/>
            <a:ext cx="2590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1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; 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191120"/>
            <a:ext cx="7848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loc </a:t>
            </a:r>
            <a:r>
              <a:rPr b="1" lang="en-US" sz="2400" spc="-1" strike="noStrike">
                <a:solidFill>
                  <a:srgbClr val="000000"/>
                </a:solidFill>
                <a:latin typeface="Math4"/>
                <a:ea typeface="Math4"/>
              </a:rPr>
              <a:t>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19112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’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2               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; S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5800" y="3656520"/>
            <a:ext cx="7924680" cy="1448640"/>
            <a:chOff x="685800" y="3656520"/>
            <a:chExt cx="7924680" cy="1448640"/>
          </a:xfrm>
        </p:grpSpPr>
        <p:sp>
          <p:nvSpPr>
            <p:cNvPr id="107" name=""/>
            <p:cNvSpPr/>
            <p:nvPr/>
          </p:nvSpPr>
          <p:spPr>
            <a:xfrm>
              <a:off x="685800" y="4190760"/>
              <a:ext cx="7848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[loc’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4"/>
                  <a:ea typeface="Math4"/>
                </a:rPr>
                <a:t>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S’(loc)                    ]       [x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4"/>
                  <a:ea typeface="Math4"/>
                </a:rPr>
                <a:t>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loc’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38680" y="365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c’ fre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209680" y="1828800"/>
            <a:ext cx="4876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c; S’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loc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(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Math3"/>
                <a:ea typeface="Math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*e </a:t>
            </a:r>
            <a:r>
              <a:rPr b="1" lang="en-US" sz="2400" spc="-1" strike="noStrike">
                <a:solidFill>
                  <a:srgbClr val="000000"/>
                </a:solidFill>
                <a:latin typeface="Math1"/>
                <a:ea typeface="Math1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’(loc); 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28600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28600" y="4724280"/>
            <a:ext cx="8610480" cy="762120"/>
            <a:chOff x="228600" y="4724280"/>
            <a:chExt cx="8610480" cy="762120"/>
          </a:xfrm>
        </p:grpSpPr>
        <p:sp>
          <p:nvSpPr>
            <p:cNvPr id="112" name=""/>
            <p:cNvSpPr/>
            <p:nvPr/>
          </p:nvSpPr>
          <p:spPr>
            <a:xfrm>
              <a:off x="228600" y="4724280"/>
              <a:ext cx="861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880" y="4876920"/>
              <a:ext cx="4191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3"/>
                  <a:ea typeface="Math3"/>
                </a:rPr>
                <a:t>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restrict x = e1 in e2 </a:t>
              </a:r>
              <a:r>
                <a:rPr b="1" lang="en-US" sz="2400" spc="-1" strike="noStrike">
                  <a:solidFill>
                    <a:srgbClr val="000000"/>
                  </a:solidFill>
                  <a:latin typeface="Math1"/>
                  <a:ea typeface="Math1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eff Foster,  OSQ Retreat,  May 9-10, 20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315E-007B-4306-993E-7E0311C46C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8:56:23Z</dcterms:created>
  <dc:creator>Valued Gateway Customer</dc:creator>
  <dc:description/>
  <dc:language>en-US</dc:language>
  <cp:lastModifiedBy>Valued Gateway Customer</cp:lastModifiedBy>
  <dcterms:modified xsi:type="dcterms:W3CDTF">2001-05-08T01:08:21Z</dcterms:modified>
  <cp:revision>91</cp:revision>
  <dc:subject/>
  <dc:title>Programmer-Specified Aliasing</dc:title>
</cp:coreProperties>
</file>