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2CD2-8CFD-4DC9-89E0-00CF168FA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2D780-DE9E-4F7B-B5C0-8A044AEA9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7192-1E92-42E1-9511-2EF98B980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380EF-C12C-4B8C-8E49-FDEDA04A2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F632F-D71A-4CFE-8833-A6381BAE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B6E1C-6611-445F-A133-931AA9B2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94D80-D207-4869-B237-1224AAE3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36AFF-04E6-436C-86E0-153E6517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085A8-03CD-4FC2-818F-130C59FA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DFC8B-D54C-46FB-94FB-695094D6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9FBDF-1995-48B6-94E6-A09DAD36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E58C-FF1B-487B-9B54-33543A7C4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4FD83-7028-4F54-8A7F-ECE81AAA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54FA6-53AE-4176-BDCA-1411E33E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CAB6A-6B16-481F-A745-313CAF99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E52C3-04CA-45F4-8B26-4625AE5F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0731F-F931-4CFF-97ED-72F65FDD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CE5A-F4FA-4CBD-997D-CC9AC5B5D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277C-792C-4B4D-B8DF-2ECC3CB08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FD60-00CB-4587-B8BD-D5A3DD91E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1CF7-7FA9-4AF9-8F8F-37A18E782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1A82-A92B-49A5-BD27-9224E5988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FB7A-9B60-40B3-8044-154DC3A0B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7C70-C3F2-4929-8836-4171610C3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00EF-0416-416F-BC8A-505221A30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5146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1460-5BC9-4CBD-86DF-C46320F55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Type-Check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trict Qualifi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 Fo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Q Retre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9-10, 20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Syste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and Effect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: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r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er to abstract lo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with effect 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 ::= 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eff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to loc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L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ect un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L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ect dif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89262-9D82-4CD5-8343-A3415B35BC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Ru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environment A, expression e has typ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ing e has effect 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2120" y="4800600"/>
            <a:ext cx="7924680" cy="1143000"/>
            <a:chOff x="762120" y="4800600"/>
            <a:chExt cx="7924680" cy="1143000"/>
          </a:xfrm>
        </p:grpSpPr>
        <p:sp>
          <p:nvSpPr>
            <p:cNvPr id="119" name=""/>
            <p:cNvSpPr/>
            <p:nvPr/>
          </p:nvSpPr>
          <p:spPr>
            <a:xfrm>
              <a:off x="838080" y="4800600"/>
              <a:ext cx="7848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1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1"/>
                  <a:ea typeface="Math1"/>
                </a:rPr>
                <a:t>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; L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2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; L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1 e2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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; L1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L2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120" y="5257800"/>
              <a:ext cx="7619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52680" y="3352680"/>
            <a:ext cx="3048120" cy="1143000"/>
            <a:chOff x="3352680" y="3352680"/>
            <a:chExt cx="3048120" cy="1143000"/>
          </a:xfrm>
        </p:grpSpPr>
        <p:sp>
          <p:nvSpPr>
            <p:cNvPr id="122" name=""/>
            <p:cNvSpPr/>
            <p:nvPr/>
          </p:nvSpPr>
          <p:spPr>
            <a:xfrm>
              <a:off x="3505320" y="3352680"/>
              <a:ext cx="26668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 : re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;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*e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; L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52680" y="380988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61FDF-DEA5-4C8F-BA7F-1509F04DC8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trict Ru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743200"/>
            <a:ext cx="754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1 : r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; 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strict x = e1 in e2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2743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[x </a:t>
            </a:r>
            <a:r>
              <a:rPr b="1" lang="en-US" sz="2400" spc="-1" strike="noStrike">
                <a:solidFill>
                  <a:srgbClr val="000000"/>
                </a:solidFill>
                <a:latin typeface="Math4"/>
                <a:ea typeface="Math4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2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; 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1240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12408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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6036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; L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2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58128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67F2C-AE25-4E47-86B2-7E67D98DD5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ndnes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orem:  If Ø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 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L, then S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; S’ where r is not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:  Show subject-reduction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EB1E-19BF-4CAE-98DD-FB64BE3306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Infere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program, compute types, locs, eff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ive algorithm obvi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effect variables ranging over 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type inference, igno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stra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ynomial-time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iciency in practi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ture work:  polymorphic recur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straints make things interes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F9D8-0B62-45E9-A4EE-85686C71B0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s:  Optimiz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99:  Restrict used for optimiz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treat restricted pointer like stack location (whose address isn’t take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mizations sound with checked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system not comple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99 standard allows hard-to-check uses of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ad code that access restricted locations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nge use of restrict in data struc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 restrict pointers into same array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FDC6-8DD5-48F7-89A7-22743A6A81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:  Flow-Sensitive Type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ias Typ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Vault techniques to type qualifiers for flow-sensitiv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 Elements of data struc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a[...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n_lock(a[i]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n_unlock(a[i]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 Avoid dependent type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855D-E78A-4410-A6CC-D276ABC56E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s:  Strong-Updat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rules for 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o(x) { ... 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*x = e 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..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|PTSet(x)| =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*x]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[[e]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|PTSet(x)| &gt; 1      [[*x]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[[*x]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Sorts"/>
                <a:ea typeface="Monotype Sorts"/>
              </a:rPr>
              <a:t>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[e]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Alias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s-to sets only gr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ce |PTSet(x)| &gt; 1, lose prec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63A7-94BB-43E6-8759-F6F2CC5D34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s:  Strong-Update (2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 recovers singleton points-to s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o(int *restrict x) { ... 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ssume |PTSet(x)| = 1 at beginning of fo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aliases of *x cannot be used in fo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cover even from complicated alia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o(a-&gt;b[c].d-&gt;f-&gt;g[h-&gt;i]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5478-7C2E-41EF-9BCE-00EB3ABA74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as analysis too important to leave to the compi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 tells compiler where to assume non-alia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of restrict can be type check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and effect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ness proof uses standard subject-re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EF14-6D88-4196-B609-DF3E47A7A0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asing:  A long-standing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ers are hard to analy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p = 3 ...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update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need to know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ilers (optimiz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ware analysis tools (OSQ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8252-5A80-4864-AF1A-FCE0CC747C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ias Analys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earch:  Fully-automatic alias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liases have same 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s-to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1 = e2     e1 points to whatever e2 points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systems work w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-alias analysis scales to big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fulness of result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B289-FE98-4E1D-8377-ABF65C8A60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o Important for Compil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, C++, Java, ML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piler discovers all alia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piler can assume non-alia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user help the compi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BAFE-911C-4E27-9CF6-CA05109200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tric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99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*restrict p = ...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p point to object 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in p’s scope, all access to o are through 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4256640"/>
            <a:ext cx="678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id f(int n, int *restrict p, int *restrict q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le (n-- &g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*p++ = *q++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no ali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ex. from C99 standard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099E-A1D2-4A46-B27C-D7F0B0C196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 Wor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99 does not check restri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-level definition of safe use of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 of this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mantics for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system for safe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ness proo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09EA-1F4D-4AB7-9320-7B231E129F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160" y="1828440"/>
            <a:ext cx="3352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int *restrict p = ...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int *restrict r = p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r.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va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p.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inva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828800"/>
            <a:ext cx="4267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 int *restrict p =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p...                //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q...                // in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int *restrict p = ..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*r =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r.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F455A-E459-47B3-88AF-2BFF9CF0FF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rce Languag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mbda-calculus with restri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:=  x | n | ref e | *e | e1 := e2 | \x.e | e1 e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|  restrict x = e1 in e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 x = e1 in e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in scope only within e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a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initialized to e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in e2, only x can be used to access *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BDCA2-0EE6-4084-8314-48439B0297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4876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loc’ </a:t>
            </a:r>
            <a:r>
              <a:rPr b="1" lang="en-US" sz="2400" spc="-1" strike="noStrike">
                <a:solidFill>
                  <a:srgbClr val="000000"/>
                </a:solidFill>
                <a:latin typeface="Math4"/>
                <a:ea typeface="Math4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rror, loc </a:t>
            </a:r>
            <a:r>
              <a:rPr b="1" lang="en-US" sz="2400" spc="-1" strike="noStrike">
                <a:solidFill>
                  <a:srgbClr val="000000"/>
                </a:solidFill>
                <a:latin typeface="Math4"/>
                <a:ea typeface="Math4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’(loc’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7692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; S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ig-Step Seman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581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1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; 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191120"/>
            <a:ext cx="7848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oc </a:t>
            </a:r>
            <a:r>
              <a:rPr b="1" lang="en-US" sz="2400" spc="-1" strike="noStrike">
                <a:solidFill>
                  <a:srgbClr val="000000"/>
                </a:solidFill>
                <a:latin typeface="Math4"/>
                <a:ea typeface="Math4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19112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’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2               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; S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5800" y="3656520"/>
            <a:ext cx="7924680" cy="1448640"/>
            <a:chOff x="685800" y="3656520"/>
            <a:chExt cx="7924680" cy="1448640"/>
          </a:xfrm>
        </p:grpSpPr>
        <p:sp>
          <p:nvSpPr>
            <p:cNvPr id="107" name=""/>
            <p:cNvSpPr/>
            <p:nvPr/>
          </p:nvSpPr>
          <p:spPr>
            <a:xfrm>
              <a:off x="685800" y="4190760"/>
              <a:ext cx="7848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[loc’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4"/>
                  <a:ea typeface="Math4"/>
                </a:rPr>
                <a:t>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’(loc)                    ]       [x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4"/>
                  <a:ea typeface="Math4"/>
                </a:rPr>
                <a:t>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loc’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65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c’ fre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209680" y="1828800"/>
            <a:ext cx="4876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c; S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loc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(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*e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(loc); 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28600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28600" y="4724280"/>
            <a:ext cx="8610480" cy="762120"/>
            <a:chOff x="228600" y="4724280"/>
            <a:chExt cx="8610480" cy="762120"/>
          </a:xfrm>
        </p:grpSpPr>
        <p:sp>
          <p:nvSpPr>
            <p:cNvPr id="112" name=""/>
            <p:cNvSpPr/>
            <p:nvPr/>
          </p:nvSpPr>
          <p:spPr>
            <a:xfrm>
              <a:off x="228600" y="4724280"/>
              <a:ext cx="861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880" y="4876920"/>
              <a:ext cx="4191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restrict x = e1 in e2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1"/>
                  <a:ea typeface="Math1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99EA-ED51-458A-B4CB-BFFC6D0BF6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8:56:23Z</dcterms:created>
  <dc:creator>Valued Gateway Customer</dc:creator>
  <dc:description/>
  <dc:language>en-US</dc:language>
  <cp:lastModifiedBy>Valued Gateway Customer</cp:lastModifiedBy>
  <dcterms:modified xsi:type="dcterms:W3CDTF">2001-05-08T01:08:21Z</dcterms:modified>
  <cp:revision>91</cp:revision>
  <dc:subject/>
  <dc:title>Programmer-Specified Aliasing</dc:title>
</cp:coreProperties>
</file>