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D332-19A9-48DB-95EE-1890C52B5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E3C4-2816-49D3-8222-94D0CD89E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D142-983D-4926-AA39-A22DFAE58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E424-F958-4E8B-BC82-2A7BF64C1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23F3-4D53-46DB-B054-B8ADF273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864B7-128C-4C2A-9E8B-3D6FF39C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589B-5130-4865-AFFF-E796FFE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8F6CD-4CA5-4F47-BA1B-9C44401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A193-6585-4D1D-AF88-0DA44E6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EE478-D58A-4D60-8C45-048ADCF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672AF-0A46-44B2-9A7E-1D63E92F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C198-355F-4090-BDCD-3780BBD67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5FDB2-CD3D-4908-ADB2-DD68F99A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526E2-5E3D-4052-BB94-22E52A3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D2261-6956-4ABE-9549-A42176EC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C4553-9B42-4AD9-9E5D-1322E448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FCCAF-3A32-44AF-B6CF-2E14A19C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D857-A602-43B7-8B2D-F66D7F0AA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6E26-BC0D-4D42-B8D0-B3EF0AA47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C4D6-0E98-4F91-9F92-45F545513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06F3-C6EB-41FE-934E-11D5C54E6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0BCB-8E65-4C35-8EE1-E35A147DA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561C-FECE-4DF6-BD9E-E52FF0110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A03B-261F-4BF5-8B5A-326898DD3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7B20-CA40-4A83-AC1F-8DFD016EC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146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8C8F-7DC6-4FBF-BD07-2A437C08F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Type-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 Qualifi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Fo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Q Retre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9-10, 2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Syste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nd Effect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 to abstract lo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with effect 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::= 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f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to loc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L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 un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L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A65C-1D18-41C5-ABEF-1EF5C39E91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Ru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environment A, expression e has typ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ing e has effect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2120" y="4800600"/>
            <a:ext cx="7924680" cy="1143000"/>
            <a:chOff x="762120" y="4800600"/>
            <a:chExt cx="7924680" cy="1143000"/>
          </a:xfrm>
        </p:grpSpPr>
        <p:sp>
          <p:nvSpPr>
            <p:cNvPr id="119" name=""/>
            <p:cNvSpPr/>
            <p:nvPr/>
          </p:nvSpPr>
          <p:spPr>
            <a:xfrm>
              <a:off x="838080" y="4800600"/>
              <a:ext cx="7848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1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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; L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2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; L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1 e2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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; L1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2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5257800"/>
              <a:ext cx="761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52680" y="3352680"/>
            <a:ext cx="3048120" cy="1143000"/>
            <a:chOff x="3352680" y="3352680"/>
            <a:chExt cx="3048120" cy="1143000"/>
          </a:xfrm>
        </p:grpSpPr>
        <p:sp>
          <p:nvSpPr>
            <p:cNvPr id="122" name=""/>
            <p:cNvSpPr/>
            <p:nvPr/>
          </p:nvSpPr>
          <p:spPr>
            <a:xfrm>
              <a:off x="3505320" y="3352680"/>
              <a:ext cx="2666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 : re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;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*e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; L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2680" y="380988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8D24-203A-4D3A-90FC-E3F16CB02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 Ru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743200"/>
            <a:ext cx="754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1 :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;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strict x = e1 in e2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2743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[x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2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; 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1240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1240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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036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; L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2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5812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E018-D35C-4FF6-977C-A7075FA33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em:  If Ø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L, then 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; S’ where r is not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:  Show subject-reduction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E239-6E98-44C4-B363-FF83F4110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program, compute types, locs, 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ive algorithm obv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effect variables ranging over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type inference, igno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ynomial-time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cy in practi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ture work:  polymorphic recu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aints make things inter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ECCB-1580-4AD9-A6E1-72AC639D03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Optimiz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:  Restrict used for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treat restricted pointer like stack location (whose address isn’t take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ations sound with checked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ystem not compl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99 standard allows hard-to-check uses of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d code that access restricted locations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nge use of restrict in data stru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restrict pointers into same array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6D4C-6A47-4E8B-9992-B50659BAE2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:  Flow-Sensitive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ias 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Vault techniques to type qualifiers for flow-sensitiv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Elements of data struc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a[...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n_lock(a[i]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n_unlock(a[i]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 Avoid dependent type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8BA6-DA1A-468E-B94D-3F60AD12F8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Strong-Updat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rules for 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x) { ...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*x = e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..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|PTSet(x)| =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[[e]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|PTSet(x)| &gt; 1      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[e]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Alias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-to sets only gr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|PTSet(x)| &gt; 1, lose prec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C4CA-8CD1-4251-9768-B1F0BB4388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Strong-Update (2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recovers singleton points-to s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int *restrict x) { ...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ssume |PTSet(x)| = 1 at beginning of f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aliases of *x cannot be used in f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cover even from complicated ali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a-&gt;b[c].d-&gt;f-&gt;g[h-&gt;i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001E-009D-40FC-B669-DEECAA651D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as analysis too important to leave to the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tells compiler where to assume non-ali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restrict can be type check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and effec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proof uses standard subject-re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B88D-14CE-4CD8-AFAA-7C1FA7DB76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asing:  A long-standing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s are hard to analy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 = 3 ...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updat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need to know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ilers (optimiz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analysis tools (OSQ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0677-44BA-44A1-BC8D-5350348392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ias Analys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earch:  Fully-automatic alias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liases have same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-to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1 = e2     e1 points to whatever e2 points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s work w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-alias analysis scales to big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fulness of result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61E9-1B42-4FF3-9190-5BA05791F0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 Important for Compil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++, Java, ML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piler discovers all alia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piler can assume non-alia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user help the compi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8F9A-5471-48F9-85DC-D5DC6657F0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*restrict p = ..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p point to object 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p’s scope, all access to o are through 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256640"/>
            <a:ext cx="678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d f(int n, int *restrict p, int *restrict q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le (n-- &g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p++ = *q++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no 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ex. from C99 standar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A177-4DD3-4B69-A85B-278FB4F55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Wor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 does not check restri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-level definition of safe use of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 of thi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s for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 for safe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proo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89AC-0A6A-4200-9C14-23029A3B6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160" y="182844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p = ..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r = p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r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in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28800"/>
            <a:ext cx="426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 int *restrict p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...                //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q...                // 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p = 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*r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r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794E-77FB-45D7-AFE7-5D179C445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rce Languag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mbda-calculus with restri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:=  x | n | ref e | *e | e1 := e2 | \x.e | e1 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|  restrict x = e1 in 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x = e1 in e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in scope only within e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a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initialized to e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e2, only x can be used to access *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A473-EAB1-458C-99B0-3A9805DC8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4876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loc’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rror, loc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’(loc’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769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; S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g-Step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581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1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; 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91120"/>
            <a:ext cx="7848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oc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19112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2               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; S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3656520"/>
            <a:ext cx="7924680" cy="1448640"/>
            <a:chOff x="685800" y="3656520"/>
            <a:chExt cx="7924680" cy="1448640"/>
          </a:xfrm>
        </p:grpSpPr>
        <p:sp>
          <p:nvSpPr>
            <p:cNvPr id="107" name=""/>
            <p:cNvSpPr/>
            <p:nvPr/>
          </p:nvSpPr>
          <p:spPr>
            <a:xfrm>
              <a:off x="685800" y="4190760"/>
              <a:ext cx="7848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[loc’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4"/>
                  <a:ea typeface="Math4"/>
                </a:rPr>
                <a:t>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’(loc)                    ]       [x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4"/>
                  <a:ea typeface="Math4"/>
                </a:rPr>
                <a:t>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oc’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65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c’ fre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209680" y="1828800"/>
            <a:ext cx="4876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c;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oc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(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(loc); 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28600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28600" y="4724280"/>
            <a:ext cx="8610480" cy="762120"/>
            <a:chOff x="228600" y="4724280"/>
            <a:chExt cx="8610480" cy="762120"/>
          </a:xfrm>
        </p:grpSpPr>
        <p:sp>
          <p:nvSpPr>
            <p:cNvPr id="112" name=""/>
            <p:cNvSpPr/>
            <p:nvPr/>
          </p:nvSpPr>
          <p:spPr>
            <a:xfrm>
              <a:off x="228600" y="472428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4876920"/>
              <a:ext cx="4191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restrict x = e1 in e2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1D4C-4711-4A42-8D9A-A637EAED1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8:56:23Z</dcterms:created>
  <dc:creator>Valued Gateway Customer</dc:creator>
  <dc:description/>
  <dc:language>en-US</dc:language>
  <cp:lastModifiedBy>Valued Gateway Customer</cp:lastModifiedBy>
  <dcterms:modified xsi:type="dcterms:W3CDTF">2001-05-08T01:08:21Z</dcterms:modified>
  <cp:revision>91</cp:revision>
  <dc:subject/>
  <dc:title>Programmer-Specified Aliasing</dc:title>
</cp:coreProperties>
</file>